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9CF3-ADCB-40AC-A01E-A45F5738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69D7-9FF4-4DEF-92D5-DF6F3C32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601B-EB39-4B73-85C6-2374CDA9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D543-C293-4FC7-9DDA-5A4579D3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86F3-6A64-43B5-959C-C3307EA7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7821-9FFD-46C9-84B6-63FB3D9B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35F7-8F4E-47A8-8028-36620D65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FAF5-DAC3-429A-BA51-686E4047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67AE-272B-4FE2-ABFD-F9736D7A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B236-A150-4CC7-812F-93AFAE6B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B653-D222-4980-B384-4D7BC13E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4D3B-72B3-4EEA-B82C-D6DD762E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9E31-A4D3-481C-B6E7-42A3456412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WATER AND SOIL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ZÁKLADNÍ ŠKOLA DUB NAD MORAVOU, CZECH REPUBL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UR NEIGHBOURH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UB NAD MORAVOU CHU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THE MORAVA R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Zástupný symbol pro obsah 11" descr="reka1.JPG"/>
          <p:cNvPicPr/>
          <p:nvPr/>
        </p:nvPicPr>
        <p:blipFill>
          <a:blip r:embed="rId1"/>
          <a:stretch/>
        </p:blipFill>
        <p:spPr>
          <a:xfrm>
            <a:off x="4452840" y="2637000"/>
            <a:ext cx="4421160" cy="3024000"/>
          </a:xfrm>
          <a:prstGeom prst="rect">
            <a:avLst/>
          </a:prstGeom>
          <a:ln w="0">
            <a:noFill/>
          </a:ln>
        </p:spPr>
      </p:pic>
      <p:pic>
        <p:nvPicPr>
          <p:cNvPr id="47" name="Zástupný symbol pro obsah 10" descr="800px-DubNM.jpg"/>
          <p:cNvPicPr/>
          <p:nvPr/>
        </p:nvPicPr>
        <p:blipFill>
          <a:blip r:embed="rId2"/>
          <a:stretch/>
        </p:blipFill>
        <p:spPr>
          <a:xfrm>
            <a:off x="203040" y="2637000"/>
            <a:ext cx="40910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Working on water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Zástupný symbol pro obsah 4" descr="dnyvody17.jpg"/>
          <p:cNvPicPr/>
          <p:nvPr/>
        </p:nvPicPr>
        <p:blipFill>
          <a:blip r:embed="rId1"/>
          <a:stretch/>
        </p:blipFill>
        <p:spPr>
          <a:xfrm>
            <a:off x="395280" y="2349360"/>
            <a:ext cx="3943440" cy="2955960"/>
          </a:xfrm>
          <a:prstGeom prst="rect">
            <a:avLst/>
          </a:prstGeom>
          <a:ln w="0">
            <a:noFill/>
          </a:ln>
        </p:spPr>
      </p:pic>
      <p:pic>
        <p:nvPicPr>
          <p:cNvPr id="50" name="Zástupný symbol pro obsah 5" descr="P1070345.JPG"/>
          <p:cNvPicPr/>
          <p:nvPr/>
        </p:nvPicPr>
        <p:blipFill>
          <a:blip r:embed="rId2"/>
          <a:stretch/>
        </p:blipFill>
        <p:spPr>
          <a:xfrm>
            <a:off x="4610160" y="2349360"/>
            <a:ext cx="43369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RESULTS OF BIOLOGICAL ANALYSIS OF WATER –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MICROSCOPIC FIN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YCLOPS STRENU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Zástupný symbol pro obsah 6" descr="P1060962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HILOD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Zástupný symbol pro obsah 7" descr="P1060900.JPG"/>
          <p:cNvPicPr/>
          <p:nvPr/>
        </p:nvPicPr>
        <p:blipFill>
          <a:blip r:embed="rId2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ESULTS OF BIOLOGICAL ANALYSIS OF WATER – MICROSCOPIC FIN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INE POLLEN GR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Zástupný symbol pro obsah 6" descr="pyl - borovice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YANOBACTERIAE AND ALG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Zástupný symbol pro obsah 7" descr="P1060330.JPG"/>
          <p:cNvPicPr/>
          <p:nvPr/>
        </p:nvPicPr>
        <p:blipFill>
          <a:blip r:embed="rId2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RESULTS OF BIOLOGICAL ANALYSIS OF WATER –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MICROSCOPIC FIN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STRACOD CAND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Zástupný symbol pro obsah 6" descr="P1060977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ECOMPOSING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Zástupný symbol pro obsah 7" descr="P1060349.JPG"/>
          <p:cNvPicPr/>
          <p:nvPr/>
        </p:nvPicPr>
        <p:blipFill>
          <a:blip r:embed="rId2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50560" y="18864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FOR CHEMICAL ANALYSIS OF TWO COLLECTED WATER SAMPLES A COMPACT LABORATORY KI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FOR WATER TESTING FROM MERCK COMPANY WAS USED. STUDENTS USED THIS KIT ALSO FOR DEFINING SOIL PH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47640" y="2276640"/>
          <a:ext cx="6072480" cy="3157200"/>
        </p:xfrm>
        <a:graphic>
          <a:graphicData uri="http://schemas.openxmlformats.org/drawingml/2006/table">
            <a:tbl>
              <a:tblPr/>
              <a:tblGrid>
                <a:gridCol w="1440000"/>
                <a:gridCol w="2162160"/>
                <a:gridCol w="2470320"/>
              </a:tblGrid>
              <a:tr h="2455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PARAM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THE MORAVA RI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THE GARDEN LA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1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ightly yel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ightly 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RBID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ightly 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rbid, mud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1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OR - CO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arly any o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ightly fish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5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OR - WA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arthy o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hy, gras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25 - neutral up to slightly aci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0 - neut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5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MON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  mg/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 03 mg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1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TR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mg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g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TRI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5 mg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 mg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1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SPH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 mg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 mg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RD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um 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um 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2480" marR="42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ESULTS OF SOIL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THE FIELD WHERE THE SAMP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WAS COLLEC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ROWN SO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Zástupný symbol pro obsah 10" descr="hnědozem.jpg"/>
          <p:cNvPicPr/>
          <p:nvPr/>
        </p:nvPicPr>
        <p:blipFill>
          <a:blip r:embed="rId1"/>
          <a:stretch/>
        </p:blipFill>
        <p:spPr>
          <a:xfrm>
            <a:off x="5724360" y="2362320"/>
            <a:ext cx="2303640" cy="3278160"/>
          </a:xfrm>
          <a:prstGeom prst="rect">
            <a:avLst/>
          </a:prstGeom>
          <a:ln w="0">
            <a:noFill/>
          </a:ln>
        </p:spPr>
      </p:pic>
      <p:pic>
        <p:nvPicPr>
          <p:cNvPr id="72" name="obrázek 1" descr=""/>
          <p:cNvPicPr/>
          <p:nvPr/>
        </p:nvPicPr>
        <p:blipFill>
          <a:blip r:embed="rId2"/>
          <a:stretch/>
        </p:blipFill>
        <p:spPr>
          <a:xfrm>
            <a:off x="250920" y="2476440"/>
            <a:ext cx="42400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SOIL TYPE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:  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brown soil, containing smalplant roots,  remains of soil microorganisms, residues leaves and twigs. Rarely it contains clay grains and parts of  eartworms.</a:t>
            </a:r>
            <a:br>
              <a:rPr sz="3600"/>
            </a:br>
            <a:r>
              <a:rPr b="1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SOIL STRUCTURE: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umpy and crumbly soil, without sand, medium heavy.</a:t>
            </a:r>
            <a:br>
              <a:rPr sz="3600"/>
            </a:br>
            <a:r>
              <a:rPr b="1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SOIL pH: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identified pH was 5,7 which means slightly acid soil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17:03:18Z</dcterms:created>
  <dc:creator>buchta</dc:creator>
  <dc:description/>
  <dc:language>en-US</dc:language>
  <cp:lastModifiedBy>buchta</cp:lastModifiedBy>
  <dcterms:modified xsi:type="dcterms:W3CDTF">2011-02-19T18:02:04Z</dcterms:modified>
  <cp:revision>6</cp:revision>
  <dc:subject/>
  <dc:title>WATER AND SOIL ANALYSIS</dc:title>
</cp:coreProperties>
</file>